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D6E-CCE0-4DA6-800C-86933AA9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9C3-1E44-4650-B701-B3470D7D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04A-7C81-4815-A11A-08DF12DA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033-8926-4160-A052-426A9C30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932-65AF-466B-9461-49120DB1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874-C493-4D5E-BAFA-A4CFF5FD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88F-0C3A-4750-B233-AB2F3A57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7B9-EC6C-48A3-B22B-041E31EE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DF0-059B-4CC5-9CD8-611F51FA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074E-B7E7-4E24-A880-4BF7FB1E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396-1D3A-4EAA-9A36-873A1508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151-8B9B-4617-AC97-7C81FFF9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EB8E-01FA-4138-BE1D-5F73E3682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36666_ph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74600"/>
            <a:ext cx="883944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مراحمِ الرب أُغني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ن حقِّهِ يُخبرُ فم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زال مخاوفي مني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منحني سعادة أبد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ه ذراعُ القدرةِ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ه يمينُ العزَّة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سمهُ ربُّ النعمةِ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مَن قد أعطاني الحر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وك الأرضِ يسجدون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له بخشوعٍ يخضع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َن غيرُهُ غلبَ المَنون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يسوعُ فادي البشر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َن في السماءِ يعادِلُهُ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مَن على الأرضِ يشابِهُه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ـهابَتـُهُ تكلـِّلــــــُهُ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إبنُ الأحضان الأز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18:01Z</dcterms:modified>
  <cp:revision>10</cp:revision>
  <dc:subject/>
  <dc:title>PowerPoint Presentation</dc:title>
</cp:coreProperties>
</file>